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1A40-59C0-4E26-9062-19BAB39BD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0189-35E4-4217-A536-6460D98DB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403C-5397-42F4-921F-7749F2A7E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26ED-651B-497D-8CC9-C1C0C0CD8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B6C1-68A9-4A3E-BE8F-ABDAD350E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309C-D5C9-4F83-BE5E-73ED184A0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9BF0-3A11-432F-9966-0A2A5A6F2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CF02-DEA1-4C5A-9E1D-477F5D060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4664-3D08-4251-9512-788B3C159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9EC6-0BAC-442C-9C36-CA23CB616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ACC9-EB4F-4620-9E57-C54A88D40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35A1-7503-46AE-AACF-176056768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4B09-BF6B-461C-9A88-CBE6EB126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2AE2-9C1F-479A-B5D7-975AB47C6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AC3D-7E09-445B-9B9B-DFE22DEBD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7555-855A-471B-B107-3E6D4448AC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E22D-75F8-4ED8-AA13-CA782E3480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8FA6B-F522-4E6D-8601-4BB454189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6B1D-FBE3-4DE5-A135-6BA434B7F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7C5C-AA37-4D30-8538-9F048D63E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89290-430C-41A3-B561-7318E359D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D99F-4DF1-44A8-A936-C05E26EE5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FD2B-DB1D-457A-8FEE-6039545BD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D446-D15B-41D8-A5F2-4EADE396A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3A04-91B4-43D0-8026-034FC1BA5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1C18-622D-4543-852D-DD3AE3B77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Nin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Delive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9-1.jpg"/>
          <p:cNvPicPr/>
          <p:nvPr/>
        </p:nvPicPr>
        <p:blipFill>
          <a:blip r:embed="rId1"/>
          <a:stretch/>
        </p:blipFill>
        <p:spPr>
          <a:xfrm>
            <a:off x="2666880" y="2743200"/>
            <a:ext cx="44514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0C75-D134-4FB2-81B9-3C07E58F5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ect trainees based 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05160" y="167616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 assess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s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Trainability test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181480" y="441972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**Test that measures an individual’s 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 learn and perform training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8" descr="9-10.jpg"/>
          <p:cNvPicPr/>
          <p:nvPr/>
        </p:nvPicPr>
        <p:blipFill>
          <a:blip r:embed="rId1"/>
          <a:stretch/>
        </p:blipFill>
        <p:spPr>
          <a:xfrm>
            <a:off x="1219320" y="4267080"/>
            <a:ext cx="29700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88B2-C890-49FB-8E07-0044FC3D4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ability tests inv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512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a mini-course or learning a sample of th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512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a test that measures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ve of training success and job performance in many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mostly for psychomotor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8A24-BDA4-4349-A056-3B46E3C65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irkpatrick outlined four decisions for selecting particip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 can benefit from trai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programs are required by law or by government edi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ould training be voluntary or compuls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ould participants be segregated by level,   or should levels be combi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32D2-F252-4965-8829-C18E5CF61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is information can be incorporated into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p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indicates who needs training,  the type of training that is needed, and how training will be deliver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9-13.jpg"/>
          <p:cNvPicPr/>
          <p:nvPr/>
        </p:nvPicPr>
        <p:blipFill>
          <a:blip r:embed="rId1"/>
          <a:stretch/>
        </p:blipFill>
        <p:spPr>
          <a:xfrm>
            <a:off x="2895480" y="3809880"/>
            <a:ext cx="298764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711D-8F90-412F-86A9-AE1C7B2E7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Materials &amp; Equi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aterial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Expendabl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.e., note pads, pens, flipchart, hand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quipment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Non-expendabl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.e., computer, DVD player, overhea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content, methods and exercises in a training program determine the material and equip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2B49-705F-4FBD-88C2-7EAE9B70C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ing Sit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training site ca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pany training facility or training ro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nted premises (conference or meeting 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utdoor site for experienti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site should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ducive to learning (comfortable set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ee of distractions (noise, interru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t up appropriately (seating arrangement to enhance 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B727-3C65-4B87-8192-D56072E27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70572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65760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53352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ing Sit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3048120" y="1676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6248520" y="1676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756720" y="5637240"/>
            <a:ext cx="156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607560" y="5637240"/>
            <a:ext cx="205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ate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905880" y="5637240"/>
            <a:ext cx="16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26"/>
          <p:cNvGrpSpPr/>
          <p:nvPr/>
        </p:nvGrpSpPr>
        <p:grpSpPr>
          <a:xfrm>
            <a:off x="762120" y="3886200"/>
            <a:ext cx="1371600" cy="761760"/>
            <a:chOff x="762120" y="3886200"/>
            <a:chExt cx="1371600" cy="761760"/>
          </a:xfrm>
        </p:grpSpPr>
        <p:sp>
          <p:nvSpPr>
            <p:cNvPr id="125" name="Oval 11"/>
            <p:cNvSpPr/>
            <p:nvPr/>
          </p:nvSpPr>
          <p:spPr>
            <a:xfrm>
              <a:off x="76212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106704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37196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167652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762120" y="4190760"/>
              <a:ext cx="15264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106704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137196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1676520" y="4190760"/>
              <a:ext cx="15264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198144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198144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198144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762120" y="44956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704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137196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676520" y="44956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Rectangle 27"/>
          <p:cNvSpPr/>
          <p:nvPr/>
        </p:nvSpPr>
        <p:spPr>
          <a:xfrm>
            <a:off x="685800" y="25146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29"/>
          <p:cNvSpPr/>
          <p:nvPr/>
        </p:nvSpPr>
        <p:spPr>
          <a:xfrm>
            <a:off x="3581280" y="4191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30"/>
          <p:cNvSpPr/>
          <p:nvPr/>
        </p:nvSpPr>
        <p:spPr>
          <a:xfrm>
            <a:off x="3581280" y="3581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32"/>
          <p:cNvSpPr/>
          <p:nvPr/>
        </p:nvSpPr>
        <p:spPr>
          <a:xfrm>
            <a:off x="5486400" y="3581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33"/>
          <p:cNvSpPr/>
          <p:nvPr/>
        </p:nvSpPr>
        <p:spPr>
          <a:xfrm>
            <a:off x="3581280" y="4495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4"/>
          <p:cNvSpPr/>
          <p:nvPr/>
        </p:nvSpPr>
        <p:spPr>
          <a:xfrm>
            <a:off x="3581280" y="388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6"/>
          <p:cNvSpPr/>
          <p:nvPr/>
        </p:nvSpPr>
        <p:spPr>
          <a:xfrm>
            <a:off x="5486400" y="3886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37"/>
          <p:cNvSpPr/>
          <p:nvPr/>
        </p:nvSpPr>
        <p:spPr>
          <a:xfrm>
            <a:off x="5486400" y="4495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38"/>
          <p:cNvSpPr/>
          <p:nvPr/>
        </p:nvSpPr>
        <p:spPr>
          <a:xfrm>
            <a:off x="51814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39"/>
          <p:cNvSpPr/>
          <p:nvPr/>
        </p:nvSpPr>
        <p:spPr>
          <a:xfrm>
            <a:off x="54864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40"/>
          <p:cNvSpPr/>
          <p:nvPr/>
        </p:nvSpPr>
        <p:spPr>
          <a:xfrm>
            <a:off x="396252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41"/>
          <p:cNvSpPr/>
          <p:nvPr/>
        </p:nvSpPr>
        <p:spPr>
          <a:xfrm>
            <a:off x="42670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42"/>
          <p:cNvSpPr/>
          <p:nvPr/>
        </p:nvSpPr>
        <p:spPr>
          <a:xfrm>
            <a:off x="457200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43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64"/>
          <p:cNvSpPr/>
          <p:nvPr/>
        </p:nvSpPr>
        <p:spPr>
          <a:xfrm>
            <a:off x="1371600" y="182880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5"/>
          <p:cNvSpPr/>
          <p:nvPr/>
        </p:nvSpPr>
        <p:spPr>
          <a:xfrm>
            <a:off x="1102320" y="20239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2"/>
          <p:cNvSpPr/>
          <p:nvPr/>
        </p:nvSpPr>
        <p:spPr>
          <a:xfrm>
            <a:off x="6232680" y="2652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3"/>
          <p:cNvSpPr/>
          <p:nvPr/>
        </p:nvSpPr>
        <p:spPr>
          <a:xfrm>
            <a:off x="3809880" y="45720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4"/>
          <p:cNvSpPr/>
          <p:nvPr/>
        </p:nvSpPr>
        <p:spPr>
          <a:xfrm>
            <a:off x="3809880" y="3505320"/>
            <a:ext cx="22860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5"/>
          <p:cNvSpPr/>
          <p:nvPr/>
        </p:nvSpPr>
        <p:spPr>
          <a:xfrm>
            <a:off x="5181480" y="3505320"/>
            <a:ext cx="22860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6"/>
          <p:cNvSpPr/>
          <p:nvPr/>
        </p:nvSpPr>
        <p:spPr>
          <a:xfrm>
            <a:off x="3809880" y="25146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7"/>
          <p:cNvSpPr/>
          <p:nvPr/>
        </p:nvSpPr>
        <p:spPr>
          <a:xfrm>
            <a:off x="4495680" y="182880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8"/>
          <p:cNvSpPr/>
          <p:nvPr/>
        </p:nvSpPr>
        <p:spPr>
          <a:xfrm>
            <a:off x="4226760" y="20239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83"/>
          <p:cNvGrpSpPr/>
          <p:nvPr/>
        </p:nvGrpSpPr>
        <p:grpSpPr>
          <a:xfrm>
            <a:off x="7924680" y="3200400"/>
            <a:ext cx="914400" cy="914400"/>
            <a:chOff x="7924680" y="3200400"/>
            <a:chExt cx="914400" cy="914400"/>
          </a:xfrm>
        </p:grpSpPr>
        <p:sp>
          <p:nvSpPr>
            <p:cNvPr id="164" name="Oval 48"/>
            <p:cNvSpPr/>
            <p:nvPr/>
          </p:nvSpPr>
          <p:spPr>
            <a:xfrm>
              <a:off x="792468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51"/>
            <p:cNvSpPr/>
            <p:nvPr/>
          </p:nvSpPr>
          <p:spPr>
            <a:xfrm>
              <a:off x="868680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52"/>
            <p:cNvSpPr/>
            <p:nvPr/>
          </p:nvSpPr>
          <p:spPr>
            <a:xfrm>
              <a:off x="792468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57"/>
            <p:cNvSpPr/>
            <p:nvPr/>
          </p:nvSpPr>
          <p:spPr>
            <a:xfrm>
              <a:off x="868680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8001000" y="3276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84"/>
          <p:cNvGrpSpPr/>
          <p:nvPr/>
        </p:nvGrpSpPr>
        <p:grpSpPr>
          <a:xfrm>
            <a:off x="6477120" y="3200400"/>
            <a:ext cx="914400" cy="914400"/>
            <a:chOff x="6477120" y="3200400"/>
            <a:chExt cx="914400" cy="914400"/>
          </a:xfrm>
        </p:grpSpPr>
        <p:sp>
          <p:nvSpPr>
            <p:cNvPr id="170" name="Oval 85"/>
            <p:cNvSpPr/>
            <p:nvPr/>
          </p:nvSpPr>
          <p:spPr>
            <a:xfrm>
              <a:off x="647712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86"/>
            <p:cNvSpPr/>
            <p:nvPr/>
          </p:nvSpPr>
          <p:spPr>
            <a:xfrm>
              <a:off x="723924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87"/>
            <p:cNvSpPr/>
            <p:nvPr/>
          </p:nvSpPr>
          <p:spPr>
            <a:xfrm>
              <a:off x="647712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88"/>
            <p:cNvSpPr/>
            <p:nvPr/>
          </p:nvSpPr>
          <p:spPr>
            <a:xfrm>
              <a:off x="723924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89"/>
            <p:cNvSpPr/>
            <p:nvPr/>
          </p:nvSpPr>
          <p:spPr>
            <a:xfrm>
              <a:off x="6553440" y="3276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90"/>
          <p:cNvGrpSpPr/>
          <p:nvPr/>
        </p:nvGrpSpPr>
        <p:grpSpPr>
          <a:xfrm>
            <a:off x="7238880" y="4343400"/>
            <a:ext cx="914400" cy="914400"/>
            <a:chOff x="7238880" y="4343400"/>
            <a:chExt cx="914400" cy="914400"/>
          </a:xfrm>
        </p:grpSpPr>
        <p:sp>
          <p:nvSpPr>
            <p:cNvPr id="176" name="Oval 91"/>
            <p:cNvSpPr/>
            <p:nvPr/>
          </p:nvSpPr>
          <p:spPr>
            <a:xfrm>
              <a:off x="7238880" y="4343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92"/>
            <p:cNvSpPr/>
            <p:nvPr/>
          </p:nvSpPr>
          <p:spPr>
            <a:xfrm>
              <a:off x="8001000" y="4343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93"/>
            <p:cNvSpPr/>
            <p:nvPr/>
          </p:nvSpPr>
          <p:spPr>
            <a:xfrm>
              <a:off x="7238880" y="5105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94"/>
            <p:cNvSpPr/>
            <p:nvPr/>
          </p:nvSpPr>
          <p:spPr>
            <a:xfrm>
              <a:off x="8001000" y="5105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95"/>
            <p:cNvSpPr/>
            <p:nvPr/>
          </p:nvSpPr>
          <p:spPr>
            <a:xfrm>
              <a:off x="7315200" y="4419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Rectangle 96"/>
          <p:cNvSpPr/>
          <p:nvPr/>
        </p:nvSpPr>
        <p:spPr>
          <a:xfrm>
            <a:off x="6477120" y="2057400"/>
            <a:ext cx="8380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7"/>
          <p:cNvSpPr/>
          <p:nvPr/>
        </p:nvSpPr>
        <p:spPr>
          <a:xfrm>
            <a:off x="8534520" y="1905120"/>
            <a:ext cx="30456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98"/>
          <p:cNvSpPr/>
          <p:nvPr/>
        </p:nvSpPr>
        <p:spPr>
          <a:xfrm>
            <a:off x="7848720" y="220968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9"/>
          <p:cNvSpPr/>
          <p:nvPr/>
        </p:nvSpPr>
        <p:spPr>
          <a:xfrm>
            <a:off x="7579440" y="240516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E5D9-09EC-4EA6-85BB-EB7069E15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cheduling the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Program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781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cheduling must take into conside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st time for employees to att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vailability of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vailability of training site               an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ngle or multiple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81620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ssed vs. distribu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9-17.jpg"/>
          <p:cNvPicPr/>
          <p:nvPr/>
        </p:nvPicPr>
        <p:blipFill>
          <a:blip r:embed="rId1"/>
          <a:stretch/>
        </p:blipFill>
        <p:spPr>
          <a:xfrm>
            <a:off x="5919840" y="3276720"/>
            <a:ext cx="322416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D87D-C682-4D60-BDC5-9E72D3191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Administr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of the training program also depends on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administration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ordination of all the people and materials involved in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9-18.jpg"/>
          <p:cNvPicPr/>
          <p:nvPr/>
        </p:nvPicPr>
        <p:blipFill>
          <a:blip r:embed="rId1"/>
          <a:stretch/>
        </p:blipFill>
        <p:spPr>
          <a:xfrm>
            <a:off x="5105520" y="2438280"/>
            <a:ext cx="36813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4C6D-5069-4289-AC77-531431DF0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reating a Climate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for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aining climate conducive to learning makes participants feel relaxed, comfortable and s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arriv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ing trainee befor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tings, information or pre-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s conditions of practice before tr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ting of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coming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relaxe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F7C3-BBAF-47D2-8DF0-C37C33EDC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 lesson plan and the information to include i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characteristics of an effectiv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o decide who should attend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what makes an effective training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elements of a positive learning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Gag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nine events of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problems and solutions of training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A7A1-CCBE-4D63-AAF4-8932FBE51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Creating a Climate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or Lear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facility/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discussed in choosing training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room/site is appropriate and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er’s style and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brief personal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 with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able, empathetic, engaging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C59F-9EDC-4AF5-801F-ED10633DE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Gagn</a:t>
            </a:r>
            <a:r>
              <a:rPr b="1" lang="en-CA" sz="4000" spc="-1" strike="noStrike">
                <a:solidFill>
                  <a:srgbClr val="ccffcc"/>
                </a:solidFill>
                <a:latin typeface="Arial"/>
                <a:ea typeface="Times New Roman"/>
              </a:rPr>
              <a:t>é’s Events of Instruc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 recall of prio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the material to b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guidance fo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22860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cit performanc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formation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 retention and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which we can add one m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01240" y="1565280"/>
            <a:ext cx="8873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Gagn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proposed nine events of instruc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6DE2-D332-43C6-BF56-156DA6EFB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ccffcc"/>
                </a:solidFill>
                <a:latin typeface="Arial"/>
              </a:rPr>
              <a:t>Training Delivery Problems: Problem Participants</a:t>
            </a:r>
            <a:endParaRPr b="1" lang="en-US" sz="3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sitan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nopol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ice of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g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n-lis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z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4267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id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stil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gry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gativ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ow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ngent t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263040" y="5673600"/>
            <a:ext cx="19760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9.4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228600" y="15238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65A9-C4A9-4E9C-BED5-69A3385F5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ice and experienced trainers can experience training delivery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asic themes of delivery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. Pertaining to tr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. How trainer relates to train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. Presenta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tudy of novice trainers identified 12 most common. Study of experienced trainers identified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917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4E84-8917-4824-A985-E82012D7D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elve common training delivery problems expressed by novice train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  Fear (Lack of confid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.  Perception of lack of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.  Lack of  personal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.  Handling difficult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5.  Encouraging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6.  Timing (Too much or too little mater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9D91-807E-454C-9136-2936F929C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elve common training delivery prob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’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7.  Adjusting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8.  Responding to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9.  Feedback (Acquiring and Respon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0.  Using media, materials,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1.  Opening and closing                                      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811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pendence on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6542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438280" y="5943600"/>
          <a:ext cx="5486400" cy="39672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Trainer’s Notebook 9.3 for Solu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E942-18BC-4218-B06D-9F0D22FA9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involved in delivering a training program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ce of Lesson Plan and elements of it were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effective trainers and determining who should attend train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stical issues of site selection, training administration, and scheduling training re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how to create training climate, identified Events of Instruction, and common training problems and their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A6BB-88C0-4473-A02A-DE27E0091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              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26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sson plan is a b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ueprint that outlines the training program in terms of sequence of activities and events that will tak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sson: a cohesive unit of instruction with a specific learning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9-3.jpg"/>
          <p:cNvPicPr/>
          <p:nvPr/>
        </p:nvPicPr>
        <p:blipFill>
          <a:blip r:embed="rId1"/>
          <a:stretch/>
        </p:blipFill>
        <p:spPr>
          <a:xfrm>
            <a:off x="4724280" y="2438280"/>
            <a:ext cx="424836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7B7E-A533-424A-9333-456DD7DB3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Lesson plan cover page sh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s and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allocation an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lassroom requirements and s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materials an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supplies and hand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6AFD-258F-431F-86E8-7F02F9B4C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quencing of the various activities in the lesson is an important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approach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to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rete to abstr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 to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to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ar to 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to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4A30-E92E-4C80-A8DA-ABEE07A56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with simple and familiar eases learners into new content and exper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uilds trainee self-effi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rainees to see how their current level of knowledge and experience is relevant for th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mately it reduces learner anxiety and makes for a more comfortable learning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on plan should focus on what trainees will be doing during the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4432-D6A6-4690-A2BD-1C3C2CD7C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              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Lesson plans are critical in design ph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s for approval  and smooth operation of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ables expenditures to be budgeted and moni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sures training is directed toward re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hances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ts the tone for professional approach to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51BB-46DB-430A-99D7-94AA3E34B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electing a trainer is an important factor in the success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al (HR, training staff, Manager, or S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ternal (Consultant, Volunte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Qualities of a good trai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Knowledgeable or Subject matter expert (S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livery (i.e., verbal/communication, interpersonal, organizing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ility to make material inter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thusiastic, expressive &amp; eng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4644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6A1B-6D88-4EE1-A085-DCB156FD2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eveloping a Trai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al staff who are SME’s may need development to be an effectiv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-the-trainer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program teaches SME’s how to design and deliver training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portant and valuable investment in the SME as it will enhance experience as a trainer, increase effectiveness and ultimately improv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8T18:17:21Z</dcterms:modified>
  <cp:revision>310</cp:revision>
  <dc:subject/>
  <dc:title>Chapter 9</dc:title>
</cp:coreProperties>
</file>